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AC86-A800-48A5-B280-89534365C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D8CC-41A5-42E4-8B07-691BBAB8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A2FB-C60C-44D2-99DC-6E1D81BAC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2724-DA8B-4617-8E60-8EF1A2A0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2D2B-1095-42B7-B14E-D1B56AB8C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7D3A-B706-439E-AAF4-809E9C8D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A7B8-AE41-455C-A62D-386ED023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AFBF-4C6D-4FF4-8589-B8AF8172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FB36-729F-48CA-AC73-DD9688A1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AB75-D8EF-4BC1-8B1A-062EA5D4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68BF-1DCA-4A99-90C9-04A8A920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609D-57D9-4328-8697-5EF48532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C62A-DF67-480F-8792-279AA539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86B1-6032-42AC-950A-C377A173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D724-3C5F-46EB-A1CD-DFCF50B6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AA5C-618C-48B2-B269-10A62D169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9D18-8097-480C-B3B5-F7562ABE7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E953-BC72-4179-987B-A6D85106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9CEB-B04D-4FF4-928B-257E02DF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98A5-4FF7-432E-82D3-4182BC99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6DEC-3717-49B3-9DC6-96452B36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7BAB-5733-4DCD-95C2-0294818F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D13F-E7FB-402E-ADF5-C8CC1F52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4A84-03DB-408A-9F95-23D9743F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F0C9-4419-401D-B508-A65F15267FB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9BE8-6B07-4258-915F-AB1E72A28CC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6478560" cy="792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Основные направления работы Бюро по стандартам</a:t>
            </a:r>
            <a:endParaRPr b="0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58920" y="1674720"/>
            <a:ext cx="8353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n-US" sz="2200" spc="-1" strike="noStrike">
                <a:solidFill>
                  <a:srgbClr val="00b200"/>
                </a:solidFill>
                <a:latin typeface="Comic Sans MS"/>
              </a:rPr>
              <a:t>Гармонизация технических регламентов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2. Межгосударственная стандартизация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- анализ, планирование, координация работы МТК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- подготовка НД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3. Обеспечение единства измерений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4. Оценка соответствия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5. Надзор и контроль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6. Обращение химической продукции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7. Премия качества СНГ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8. Каталогизация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9. Международное сотрудничество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0. Информационные технологии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3D43-C558-44A1-A65D-E4C29F9FA3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ценка соответств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241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боты по анализу гармонизации законодательства государств-участников СНГ в области подтверждения соответствия в соответствии с международными подходам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боты по обеспечению идентичности правил и процедур подтверждения соответствия продукции, поставляемой на национальные рынки государств-участников СНГ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р решение вопросов по повышению качества и конкурентоспособности производимой в государствах-участниках СНГ продукции и услуг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нформационное обеспечение экспортеров об обязательных требованиях к поставляемой продукции, действующих на рынках стран СНГ, и процедурах ее размещения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нализ ПМС 2010-2012 раздел «Оценка соответствия»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проектов повесток и протоколов заседаний НТКОС, и рассылка их НО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62E7-59F6-4C3D-BDF7-5313A7E6AF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6920" y="-243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ценка соответств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-51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и направление в Исполнительный комитет СНГ материалов по выполнению Стратегии экономического развития СНГ, касающейся оценки (подтверждения) соответстви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8040" indent="-51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информации о реализации Плана действий МГС на период до 2015 года к заседаниям МГС и НТК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8040" indent="-51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ктуализация перечня продукции, подлежащей обязательной сертификаци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8040" indent="-51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ктуализация перечня органов по сертификации персонала государств-участников «Соглашения о взаимном признании сертификатов компетентности персонала в области оценки соответствия», принятому 30 мая 2002 года, г. Минск (протокол МГС № 21-2002)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8040" indent="-51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материалов по вопросам оценки (подтверждению) соответствия к заседаниям МГС, НТКОС, НТКА и для Исполнительного комитета СНГ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01DE-47FF-47CC-ABD2-105EF836A0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76000" y="333360"/>
            <a:ext cx="68706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ккредитац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560" y="1125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аботы по созданию механизма взаимного признания результатов работ по аккредитации государствами-участниками СНГ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налитический обзор о системах аккредитации в государствах-участниках СНГ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аботы по проекту «Соглашения о взаимном признании аккредитации органов по сертификации и испытательных лабораторий (центров), выполняющих работы по оценке (подтверждению) соответствия»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аботы по реализации Программы взаимодействия по вопросам аккредитации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аботы по разработке и реализации «Программы разработки и пересмотра межгосударственных стандартов по вопросам аккредитации на основе международных нормативных документов (основополагающие документы)»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одготовка и направление в Исполнительный комитет СНГ материалов по выполнению Стратегии экономического развития СНГ, касающейся аккредитации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одготовка материалов по вопросам аккредитации к заседаниям МГС, НТКА и для Исполнительного комитета СНГ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3611-5E1D-4E27-B4C2-D0F11341D5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дзор и контрол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подготовка проектов повесток и протоколов заседаний НТКН и рассылка их НО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анализ предложений НО и подготовка проектов целевых программ надзора и контроля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подготовка информации о реализации Плана действий МГС на период до 2015 года к заседаниям МГС и НТКН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координация работ по предотвращению распространения опасной продукции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подготовка материалов в области  надзора к заседаниям МГС, НТК, и для Исполнительного комитета СНГ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формирование предложений по гармонизации надзорной деятельности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переписка с НО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1A19-DFDA-45BC-AAE7-F448681763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00000" y="-243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нформационные технолог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61928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нтернет-сайт МГ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ИС МГ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ПС Стандар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асная продукц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Д эталон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естр МС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Портал МТ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9959-88AF-475C-BA80-2DA78F38D3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емия качества СН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096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формирование документов по Премии СНГ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дготовка материалов для сайта по Премии СНГ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дготовка сметы расходов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формирование Фонда конкурса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заимодействие с Исполнительным комитетом СНГ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заимодействие с предприятиями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координация взаимодействия экспертов с предприятиями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организация проведения семинара для подготовки экспертов Премии СНГ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азработка документа для вручения экспертам по окончанию семинара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формирование экспертных комиссий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абота, связанная с заключением договоров с претендентами на звание лауреатов Премии СНГ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дготовка материалов для Жюри конкурса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аботы, связанные с организацией вручения Премии СНГ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дготовка буклета Премии СНГ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дготовка отчета на утверждение Жюри конкурса по проведению конкурса Премии СНГ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абота, связанная с изготовлением Призов Премии СНГ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дготовка материалов по отчетам претендентов, по экспертным заключениям, по финансовым документам для предприятий…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8ADD-7074-40D4-83D8-DEBDE51976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rcRect l="7295" t="1966" r="9998" b="24317"/>
          <a:stretch/>
        </p:blipFill>
        <p:spPr>
          <a:xfrm>
            <a:off x="395280" y="692280"/>
            <a:ext cx="7921800" cy="4930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2C7F-822B-4827-B946-142759023B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Гармонизация технических регламен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нализ предложений НО по гармонизации технических регламентов государств – участников СН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обобщенных предложений и организация их рассмотрения НО, на заседаниях НТК и МГ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по поручению МГС проекта соглашения «О межгосударственных технических регламентах государств – участников СНГ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информации об учете замечаний и предложений Н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едставление проекта Соглашения и связанных с ним материалов в Исполнительный комитет СН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совместно с Исполнительный комитет СНГ материалов по учету замечаний и предложений государств при рассмотрении на КЭВ и Э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и направление в Исполнительный комитет СНГ материалов по выполнению Стратегии экономического развития СНГ, касающейся технического регулиров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9D52-813E-4D30-AC5C-C90CEDB3C4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ежгосударственная стандартизац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нализ, планирование и координация работы МТК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готовка аналитических материалов для Председателя, Ответственного секретаря и НО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ониторинг выполнения решений МГС (подготовка и рассылка НО планов-графиков и учет их выполнения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готовка и направление в ИСО информации о работе МГС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ормирование перечней приоритетных направлений работ по межгосударственной стандартизации и мониторинг их реализаци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ормирования программы работ по межгосударственной стандартизации, координация ее реализации и актуализаци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ониторинг межгосударственных программ стандартизаци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готовка и направление в Исполнительный комитет СНГ материалов по выполнению Стратегии экономического развития СНГ, касающейся межгосударственной стандартизации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готовка и рассылка НО проектов повесток и протоколов заседаний МГС, НТКС,  РГ по информационным технологиям, РГ по каталогизации, РГ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CH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ОХП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9191-099A-44F1-B058-E6251FAC1A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ежгосударственная стандартизац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нализ, планирование и координация работы МТК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готовка и рассылка НО проектов повесток и протоколов заседаний МГС, НТКС,  РГ по информационным технологиям, РГ по каталогизации, РГ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CH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нализ работы АИС МГС и подготовка предложений по совершенствованию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нализ материалов, представляемых НО для учреждения МТК на соответствие требованиям ПМГ 02-2008, дублирования областей деятельности, заинтересованности государств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ординация работы МТК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ктуализация Указателя МТК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дение Интернет-сайта МГ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готовка материалов по стандартизации, информационным технологиям, каталогизации, работе РГ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CH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к заседаниям МГС, НТК, и для Исполнительного комитета СНГ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писка с НО и МТК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0264-8512-44CA-A417-0AD1E73065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687096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ежгосударственная стандартизац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920" y="1386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НД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Анализ НД, размещенных в АИС МГС на принятие, на предмет полноты согласования, учета замечаний и предложений НО, присвоение обозначений, пригодности для издания и внесение данных в  АИС МГС (в раздел «Заполняет Бюро»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Формирование перечней НД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 принятие «по переписке»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меющих разногласи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едставляемых на рассмотрение НТКС и принятие МГС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Конвертирование принятых НД в ИПС «СНГ Стандарт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Дополнение ИПС «СНГ Стандарт», недостающими реквизитами, актуализация каталога межгосударственных НД и рассылка НО, рассылка англоязычной версии ИСО, МЭК,СЕН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C8DD-6A1F-42A6-AB30-1BD861D50F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оличество принятых межгосударственных стандар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62120" y="2421000"/>
          <a:ext cx="8381880" cy="30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421000"/>
                    <a:ext cx="838188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12BF-0786-49A9-BE77-F813528F20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280" y="-171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ежгосударственная стандартизац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. Регистрация принятых НД: анализ раздела 2 «Нормативные ссылки», подготовка титульных и листов предисловий с данными о регистрации, распечатка  и направление НО – разработчику вместе с  замечаниями, выявленными при регистрации  и отправка электронных версий принятых НД НО – разработчика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. 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Регистрация электронных версий НД, принятых МНТК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. Подготовка информации о принятых НД на заседании МГС, по переписке, 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МНТКС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для опубликования в информационных указателя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. Размещение поправок в АИС МГС, поступающих от НО, и поправок о дополнительном присоединении к принятым НД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. Подготовка и размещение в АИС МГС НД на издани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. Переписка с НО и МТК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. Формирование дел принятых НД ..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853E-40F7-459A-84E5-9689B191BA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беспечение единства измерен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1241280"/>
            <a:ext cx="8353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оординация работ по реализации решений МГС, НТК Метр, 6 РГ по метрологии,  10 межгосударственных программ и планов в области метрологического обеспечени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формирование реестров национальных эталонов, СИ, СО, СТД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проектов повесток и протоколов заседаний НТК Метр и РГ Метр и рассылка их НО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информации о реализации Плана действий МГС на период до 2015 года к заседаниям МГС и НТК Метр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заимодействие с КООМЕТ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межгосударственных соглашений по метрологи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материалов в области метрологии и к заседаниям МГС, НТК, и для Исполнительного комитета СНГ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ереписка с НО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FBDF-1513-47B1-B779-9AAE38A82E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12:34:17Z</dcterms:created>
  <dc:creator>client801_7</dc:creator>
  <dc:description/>
  <dc:language>en-US</dc:language>
  <cp:lastModifiedBy>Сонец</cp:lastModifiedBy>
  <dcterms:modified xsi:type="dcterms:W3CDTF">2013-03-28T06:33:49Z</dcterms:modified>
  <cp:revision>11</cp:revision>
  <dc:subject/>
  <dc:title>Основные направления работы Бюро</dc:title>
</cp:coreProperties>
</file>